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A220-B0A9-4399-A9E0-13DAD75F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5039-1E24-49A7-BCB3-0B6B8187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583A-AEA8-4E4A-85B3-4545B8C6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2FD5-D0ED-4DD4-8D61-91ACF7C7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3EA-3B73-471A-AC66-F5C11AF3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FC7-46DF-4B60-8C3B-BBC68A10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4A4-3E06-4D5B-95B0-14BC7054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E60-9ED7-49E7-B8CB-4056BA08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8F86-72D8-4613-9C7F-45C02812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6DD1-159A-43FF-B4AA-66500CB0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7F27-BBED-4E40-AC83-77C69E4E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D9F-B0F3-40B2-B525-69A681E8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A063-9ACE-4AAE-A809-CF809CF5B7E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بر والبطر والتعالي على الخل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حقيقة ضعف وعجز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مربع نص 1"/>
          <p:cNvSpPr/>
          <p:nvPr/>
        </p:nvSpPr>
        <p:spPr>
          <a:xfrm>
            <a:off x="250920" y="2421000"/>
            <a:ext cx="86612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عدم قتل الأولاد خشية الفق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جميع الفواح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قتل النفس التي حرم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مال اليتيم التي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الكيل والميزان ب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عدل في الق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عهد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اتباع غير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425520" y="981000"/>
            <a:ext cx="8486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7" name="مربع نص 1"/>
          <p:cNvSpPr/>
          <p:nvPr/>
        </p:nvSpPr>
        <p:spPr>
          <a:xfrm>
            <a:off x="250920" y="191628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مثل ما حدث اليوم في بلاد سوريا اليوم من اعتداء حكومتها على شع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295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4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298440" y="1628640"/>
            <a:ext cx="864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4" descr=""/>
          <p:cNvPicPr/>
          <p:nvPr/>
        </p:nvPicPr>
        <p:blipFill>
          <a:blip r:embed="rId1"/>
          <a:stretch/>
        </p:blipFill>
        <p:spPr>
          <a:xfrm>
            <a:off x="1058760" y="3578400"/>
            <a:ext cx="7834320" cy="229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16239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يقع في 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1477800" y="1052640"/>
            <a:ext cx="7415280" cy="57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3336840" y="2239920"/>
            <a:ext cx="557532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324000" y="28162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شر الفساد في الأرض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5" descr=""/>
          <p:cNvPicPr/>
          <p:nvPr/>
        </p:nvPicPr>
        <p:blipFill>
          <a:blip r:embed="rId6"/>
          <a:stretch/>
        </p:blipFill>
        <p:spPr>
          <a:xfrm>
            <a:off x="214200" y="4076640"/>
            <a:ext cx="5005440" cy="622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"/>
          <p:cNvPicPr/>
          <p:nvPr/>
        </p:nvPicPr>
        <p:blipFill>
          <a:blip r:embed="rId7"/>
          <a:stretch/>
        </p:blipFill>
        <p:spPr>
          <a:xfrm>
            <a:off x="1819440" y="4727520"/>
            <a:ext cx="3365280" cy="501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"/>
          <p:cNvPicPr/>
          <p:nvPr/>
        </p:nvPicPr>
        <p:blipFill>
          <a:blip r:embed="rId8"/>
          <a:stretch/>
        </p:blipFill>
        <p:spPr>
          <a:xfrm>
            <a:off x="214200" y="5300640"/>
            <a:ext cx="4934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2109960"/>
            <a:ext cx="887760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59120" y="4400640"/>
            <a:ext cx="34797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2124000" y="1052640"/>
            <a:ext cx="6792840" cy="63504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"/>
          <p:cNvSpPr/>
          <p:nvPr/>
        </p:nvSpPr>
        <p:spPr>
          <a:xfrm>
            <a:off x="250920" y="18432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بعد أن ذكر الله حقوقه وحقوق العباد ذكر الله تعالى هنا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468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616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2"/>
          <a:stretch/>
        </p:blipFill>
        <p:spPr>
          <a:xfrm>
            <a:off x="250920" y="2062080"/>
            <a:ext cx="8642160" cy="47134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4005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خافة الفق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95280" y="44766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ثماً عظيم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395280" y="4959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63600" y="5373720"/>
            <a:ext cx="48243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تب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58230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بر وخي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74760" y="632772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طرود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564000" y="1359000"/>
            <a:ext cx="3600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حرم الله تعالى على العبا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تل الوالدين لأولادهم خوفاً من الفق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عظائم الذنوب وكبائر الآث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فس التي حرم الله قتلها هي نف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مؤم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كافر الذي له عهد او أمان او ذ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وز قتل النفس المعصومة في ثلاث حال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فس بالنفس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زاني المحص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ارك لدينه المفارق للجما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86064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صدار الأحكام القضائية وتنفيذها راجع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أمر المسلمين ومن يقوم مقا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3750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احب الحق في القصاص أو الدية أو العفو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المقت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48798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4021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إيفاء المكاييل والموازين بالقسط من غير بخ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907240"/>
            <a:ext cx="8665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حفظ الجوار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389640"/>
            <a:ext cx="8665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مسؤول ع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وارح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1:00Z</dcterms:modified>
  <cp:revision>1993</cp:revision>
  <dc:subject/>
  <dc:title>عرض تقديمي في PowerPoint</dc:title>
</cp:coreProperties>
</file>